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732-65BB-46F4-9D00-8BF7BE2E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5CC-3A11-419C-B79E-F6487FD8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817E-8989-4556-8593-2FDA6BE8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D7D-00C9-464D-BFA4-01DFC6AA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AF7-CDDF-42AD-9E7B-D42AA57B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7B7-FE05-4684-BF9D-FBB1871A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ED0-A51E-4447-ACA5-E779561B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ED9E-99C3-4D2E-BBD8-7BA9A4C0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20B-C69B-458B-9C54-4CC538EA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F3E-A404-49B0-BAA2-9EF382A9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7CC-C203-4AC3-BB3D-B39186EA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63E0-3FAF-4907-99A1-D0E191D0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99cc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4591-ADDB-4FB2-8891-4F78BF8C6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sund lab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ga And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meine Gesundheit esse ich Obst und Gemüse jeden t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5688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laufe jeden tag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meine Gesundhe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33433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meine Gesundheit ich, g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ügend schläfen sie schl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3314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h finde es nicht gut, wenn du rau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952880" y="3352680"/>
            <a:ext cx="29908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h finde es gut, wenn mine freund die sonne verme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3914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darf der kakao trin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trinke keinen Alkohol, weil sie nicht so gu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ür meine gesundhe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2219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8:07:17Z</dcterms:created>
  <dc:creator>CUSD220</dc:creator>
  <dc:description/>
  <dc:language>en-US</dc:language>
  <cp:lastModifiedBy>Kurt</cp:lastModifiedBy>
  <dcterms:modified xsi:type="dcterms:W3CDTF">2012-02-28T23:50:05Z</dcterms:modified>
  <cp:revision>4</cp:revision>
  <dc:subject/>
  <dc:title>Gesund laben</dc:title>
</cp:coreProperties>
</file>